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494-E97D-409E-B269-F4C997C3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AF6-12C9-4704-A3E7-62C677C4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705-4980-40C2-BA77-629215A8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CAE-DC9F-407F-A85C-D540C8E0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F059-99D6-45FE-A735-E98603F6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4352-0AED-4A38-8ECB-60C26763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C53C-9EF2-4652-AA55-D292F431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39C8-8625-41EB-923C-BE2039F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52D2-BFA2-4EF0-885E-EA23C1A5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976-D481-4B6D-B93F-94488AB1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6E02-BD06-4431-ACC4-1010D23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43E-848C-4604-BA4A-F196BE4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2476-36DE-4292-98C1-B8381C7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D85-AD30-4835-B7C9-FBBA0DF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F05-4821-47EA-92E5-1CF3D79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6D3A-3193-4B0F-B356-FC06EEBB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F531-2058-4756-9AC3-4D274683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D60-B726-44EE-910D-19B1488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1FF-38FB-4453-8683-3726BBC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9CD-7BCF-452C-A24F-64196E5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CF4-0A71-4AAC-B1E8-A301B9B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280-13ED-4014-9038-D8055E7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A47-F34E-4E15-BDFE-BFF2BDB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A97-C117-46CF-A725-F66D6FD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F897-9928-41F0-9403-574AE1751B3F}" type="slidenum">
              <a:rPr b="0" lang="pl-P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4789-F73A-472E-84F3-2CD4998521A6}" type="slidenum"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ieś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467480" cy="441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1040" y="11160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c3e684"/>
                </a:solidFill>
                <a:latin typeface="Castellar"/>
              </a:rPr>
              <a:t>TO MOJA MAŁA OJCZYZNA</a:t>
            </a:r>
            <a:r>
              <a:rPr b="0" lang="pl-PL" sz="4400" spc="-1" strike="noStrike">
                <a:solidFill>
                  <a:srgbClr val="5b5249"/>
                </a:solidFill>
                <a:latin typeface="Castellar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a3d7a"/>
                </a:solidFill>
                <a:latin typeface="Times New Roman"/>
              </a:rPr>
              <a:t>ŚCIEŻKA REGIONALNA W GIMNAZJUM</a:t>
            </a:r>
            <a:br>
              <a:rPr sz="3200"/>
            </a:br>
            <a:r>
              <a:rPr b="1" i="1" lang="pl-PL" sz="3200" spc="-1" strike="noStrike">
                <a:solidFill>
                  <a:srgbClr val="2a3d7a"/>
                </a:solidFill>
                <a:latin typeface="Times New Roman"/>
              </a:rPr>
              <a:t>         -</a:t>
            </a:r>
            <a:r>
              <a:rPr b="1" i="1" lang="pl-PL" sz="2800" spc="-1" strike="noStrike">
                <a:solidFill>
                  <a:srgbClr val="2a3d7a"/>
                </a:solidFill>
                <a:latin typeface="Times New Roman"/>
              </a:rPr>
              <a:t>PROGRAM AUTORSKI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CELE                                                                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TREŚC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ZADAN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KOMPETENCJ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METODY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666699"/>
                </a:solidFill>
                <a:latin typeface="Times New Roman"/>
              </a:rPr>
              <a:t>EWALUACJ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BD10252_" descr=""/>
          <p:cNvPicPr/>
          <p:nvPr/>
        </p:nvPicPr>
        <p:blipFill>
          <a:blip r:embed="rId1"/>
          <a:stretch/>
        </p:blipFill>
        <p:spPr>
          <a:xfrm>
            <a:off x="1600200" y="5791320"/>
            <a:ext cx="6858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b0ae6a"/>
                </a:solidFill>
                <a:latin typeface="Times New Roman"/>
              </a:rPr>
              <a:t>CELE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2666880"/>
            <a:ext cx="64767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POZNANIE SPECYFIKI REGIONU, HISTORII,CIEKAWYCH LUDZI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KSZTAŁTOWANIE POCZUCIA WŁASNEJ TOŻSAMOŚCI,WŁASNEGO MIEJSCA NA ZIEMI, WŁASNYCH KORZENI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BD10252_" descr=""/>
          <p:cNvPicPr/>
          <p:nvPr/>
        </p:nvPicPr>
        <p:blipFill>
          <a:blip r:embed="rId1"/>
          <a:stretch/>
        </p:blipFill>
        <p:spPr>
          <a:xfrm>
            <a:off x="1905120" y="5791320"/>
            <a:ext cx="68580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BD10335_" descr=""/>
          <p:cNvPicPr/>
          <p:nvPr/>
        </p:nvPicPr>
        <p:blipFill>
          <a:blip r:embed="rId2"/>
          <a:stretch/>
        </p:blipFill>
        <p:spPr>
          <a:xfrm flipH="1" rot="10800000">
            <a:off x="1143000" y="28954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BD10335_" descr=""/>
          <p:cNvPicPr/>
          <p:nvPr/>
        </p:nvPicPr>
        <p:blipFill>
          <a:blip r:embed="rId3"/>
          <a:stretch/>
        </p:blipFill>
        <p:spPr>
          <a:xfrm flipH="1" rot="10800000">
            <a:off x="1143000" y="38862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ac164"/>
                </a:solidFill>
                <a:latin typeface="Times New Roman"/>
              </a:rPr>
              <a:t>           </a:t>
            </a:r>
            <a:r>
              <a:rPr b="1" i="1" lang="pl-PL" sz="4400" spc="-1" strike="noStrike">
                <a:solidFill>
                  <a:srgbClr val="fac164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NAZEWNICTWO MIEJSCOWE ŚWIADECTWEM DZIEJÓW WSI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NA SPOTKANIE Z PRZESZŁOŚCIĄ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BABCINA JAKL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GOŁDOMY PO NASZYMU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PIEŚNI I PRZYŚPIEWKI ZNANE I NIEZNAN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ŚLĄSKIE ZWYCZAJE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I OBRZĘD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TO LUDZIE STĄ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TO WARTO U NAS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ZOBACZYĆ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ac164"/>
                          </a:solidFill>
                          <a:latin typeface="Times New Roman"/>
                        </a:rPr>
                        <a:t>BIESIADA ŚLĄSK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pl-PL" sz="4400" spc="-1" strike="noStrike">
                <a:solidFill>
                  <a:srgbClr val="a50021"/>
                </a:solidFill>
                <a:latin typeface="Times New Roman"/>
              </a:rPr>
              <a:t>TREŚC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TOPONIMY W MOJEJ MIEJSCOWOŚC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LEGEND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DZIEJE KOŚCIOŁA PARAFIALNEG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HISTORIA MOJEJ SZKOŁ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TRADYCYJNY STRÓJ ŚLĄSK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PODWÓJNA KOMPETENCJA JĘZYKOW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PIEŚNI I PRZYŚPIEWKI NA RÓŻNE OKAZJ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SYMBOLIKA OBRZĘDÓW CYKLU RODZINNEGO I DOROCZNEG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TWÓRCZOŚĆ LITERACKA WALTRA PYKI – POETY  WYWODZĄCEGO SIĘ Z JEMIELNIC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NAJPIĘKNIEJSZE ZAKĄTKI NASZEJ GMIN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a50021"/>
                </a:solidFill>
                <a:latin typeface="Times New Roman"/>
              </a:rPr>
              <a:t>WSPÓLNA BIESIADA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BD10252_" descr=""/>
          <p:cNvPicPr/>
          <p:nvPr/>
        </p:nvPicPr>
        <p:blipFill>
          <a:blip r:embed="rId1"/>
          <a:stretch/>
        </p:blipFill>
        <p:spPr>
          <a:xfrm>
            <a:off x="1143000" y="5791320"/>
            <a:ext cx="769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1" i="1" lang="pl-PL" sz="4400" spc="-1" strike="noStrike">
                <a:solidFill>
                  <a:srgbClr val="2a3d7a"/>
                </a:solidFill>
                <a:latin typeface="Times New Roman"/>
              </a:rPr>
              <a:t>KOMPETENCJ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BD10341_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66680" y="2743200"/>
            <a:ext cx="80773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1f4081"/>
                </a:solidFill>
                <a:latin typeface="Times New Roman"/>
              </a:rPr>
              <a:t>Uczeń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1f4081"/>
                </a:solidFill>
                <a:latin typeface="Times New Roman"/>
              </a:rPr>
              <a:t>-zna symbole,nazwy, legendy, historię, tradycje, zwyczaje, cechy języka, pieśni, ciekawe miejsca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1f4081"/>
                </a:solidFill>
                <a:latin typeface="Times New Roman"/>
              </a:rPr>
              <a:t>-wyjaśnia pojęcia z  językoznawstwa, historii, architektury, etnografii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1f4081"/>
                </a:solidFill>
                <a:latin typeface="Times New Roman"/>
              </a:rPr>
              <a:t>-potrafi zaplanować i zorganizować swoją pracę, zaprezentować własne osiągnięcia, wskazać walory „małej ojczyzny”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b0ae6a"/>
                </a:solidFill>
                <a:latin typeface="Times New Roman"/>
              </a:rPr>
              <a:t>    </a:t>
            </a:r>
            <a:r>
              <a:rPr b="1" i="1" lang="pl-PL" sz="4400" spc="-1" strike="noStrike">
                <a:solidFill>
                  <a:srgbClr val="b0ae6a"/>
                </a:solidFill>
                <a:latin typeface="Times New Roman"/>
              </a:rPr>
              <a:t>METODY  PRAC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WYWI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KONKU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INSCENIZACJ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267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SPOTKANIE Z PISARZE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PROJEK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505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ANALIZA TEKST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WYCIECZK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02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PRZEKAZ SŁOWN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BD10334_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868680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4952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b0ae6a"/>
                </a:solidFill>
                <a:latin typeface="Times New Roman"/>
              </a:rPr>
              <a:t>ĆWICZENIA REDAKCYJ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c16584"/>
                </a:solidFill>
                <a:latin typeface="Times New Roman"/>
              </a:rPr>
              <a:t>      </a:t>
            </a:r>
            <a:r>
              <a:rPr b="1" i="1" lang="pl-PL" sz="4400" spc="-1" strike="noStrike">
                <a:solidFill>
                  <a:srgbClr val="c16584"/>
                </a:solidFill>
                <a:latin typeface="Times New Roman"/>
              </a:rPr>
              <a:t>EWALUACJ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Zarejestrowane wywiad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Słowniczek toponimó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Sprawozdania z wyciecze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Wystawa prac uczniowski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Broszura „Jemielnickie śpiewki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Zdję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Wpisy do kroniki szkolne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b9387"/>
                </a:solidFill>
                <a:latin typeface="Times New Roman"/>
              </a:rPr>
              <a:t>Artykuły z prasy lokalne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71800" y="32004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2895480"/>
            <a:ext cx="4343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9ddf1"/>
                </a:solidFill>
                <a:latin typeface="Times New Roman"/>
              </a:rPr>
              <a:t>Autorką programu j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9ddf1"/>
                </a:solidFill>
                <a:latin typeface="Times New Roman"/>
              </a:rPr>
              <a:t>mgr Jolanta Knapi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9ddf1"/>
                </a:solidFill>
                <a:latin typeface="Times New Roman"/>
              </a:rPr>
              <a:t>nauczycielka Publiczneg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9ddf1"/>
                </a:solidFill>
                <a:latin typeface="Times New Roman"/>
              </a:rPr>
              <a:t>Gimnazjum w Jemielnic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BD10252_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8686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39:19Z</dcterms:created>
  <dc:creator>MEN</dc:creator>
  <dc:description/>
  <dc:language>en-US</dc:language>
  <cp:lastModifiedBy>MEN</cp:lastModifiedBy>
  <dcterms:modified xsi:type="dcterms:W3CDTF">2001-12-07T09:27:51Z</dcterms:modified>
  <cp:revision>14</cp:revision>
  <dc:subject/>
  <dc:title>Prezentacja programu PowerPoint</dc:title>
</cp:coreProperties>
</file>